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D54-E555-4C3D-8A26-A56FD8E5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DD0-A294-49A1-AAAE-40725EC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FF4-B292-4DCF-A5A5-F11B45D9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A39-68E0-4FCD-BDC9-2EA2158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8F6-4E99-432B-B20E-19EEFB85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599-A31B-4F44-A557-E7D7D6E4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29-B462-48E3-87B2-DAE47D9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91E-31FC-4373-B899-DB79D7C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C24-9A19-4337-BCD7-13DEC94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32C-72CF-4B6E-8B95-7712B19F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070-4C73-449F-AB8B-0388F64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96C-F3DB-40B9-A624-69268C8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7EF-BE0B-42B1-A575-FFA23E6A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box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tell how much time has passed in a word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!  Use SEE box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962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1148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8600" y="342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410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91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4038480" cy="14781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7724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49568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a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lapsed time (time gone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1:52Z</dcterms:created>
  <dc:creator> </dc:creator>
  <dc:description/>
  <dc:language>en-US</dc:language>
  <cp:lastModifiedBy> </cp:lastModifiedBy>
  <dcterms:modified xsi:type="dcterms:W3CDTF">2008-04-25T18:59:54Z</dcterms:modified>
  <cp:revision>4</cp:revision>
  <dc:subject/>
  <dc:title>Measurement</dc:title>
</cp:coreProperties>
</file>